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2E0-810D-4A95-9667-D893A666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3FB0-EAB7-40FA-8E2A-3AE0CF19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381-AEF8-4DF2-8360-B72D5ECD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112-521F-4824-8399-784BE3D3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2E1-878D-4DFF-9C96-A6563BF1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710D-33C7-41B3-9121-650EC7D7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BF03-E432-41D9-AD6F-EC389F13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56E-E899-42D5-BAAC-8EFBC8A7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D223-7D02-4AB7-9C98-5729780D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12E-C9BD-47D2-AC03-1CEE00D4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EAD-88AD-4172-8F58-43556D2A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A82-FA97-467D-B446-F0E4551F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46C2-D89E-45D5-A318-0A05EA812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040" y="1573200"/>
            <a:ext cx="765180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Against Prejud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63800" y="4368960"/>
            <a:ext cx="61783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by Mali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735520"/>
            <a:ext cx="2022480" cy="1886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95880" y="5788080"/>
            <a:ext cx="2011320" cy="182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708440" y="676440"/>
            <a:ext cx="17272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7280" y="303120"/>
            <a:ext cx="822024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Qu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00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2f1311"/>
                </a:solidFill>
                <a:latin typeface="Arial"/>
              </a:rPr>
              <a:t>I object to violence because when it appears to do good, the good is only temporary; the evil it does is permanent." </a:t>
            </a:r>
            <a:br>
              <a:rPr sz="3500"/>
            </a:br>
            <a:r>
              <a:rPr b="0" i="1" lang="en-US" sz="3500" spc="-1" strike="noStrike">
                <a:solidFill>
                  <a:srgbClr val="2f1311"/>
                </a:solidFill>
                <a:latin typeface="Arial"/>
              </a:rPr>
              <a:t>-- Mohandas K. Gandhi</a:t>
            </a: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 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0" i="1" lang="en-US" sz="3500" spc="-1" strike="noStrike">
                <a:solidFill>
                  <a:srgbClr val="2f1311"/>
                </a:solidFill>
                <a:latin typeface="Arial"/>
              </a:rPr>
              <a:t>War is as outmoded as cannibalism, chattel slavery, blood-feuds, and dueling, an insult to God and humanity...a daily crucifixion of Christ."</a:t>
            </a:r>
            <a:r>
              <a:rPr b="0" lang="en-US" sz="3500" spc="-1" strike="noStrike">
                <a:solidFill>
                  <a:srgbClr val="2f1311"/>
                </a:solidFill>
                <a:latin typeface="Arial"/>
              </a:rPr>
              <a:t> --Unknow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7280" y="303120"/>
            <a:ext cx="822024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Be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36600" y="1827000"/>
            <a:ext cx="39384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2f1311"/>
                </a:solidFill>
                <a:latin typeface="Arial"/>
              </a:rPr>
              <a:t>"We can all do our share to redeem the world in spite of all absurdities and all frustrations and all disappointments."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2f1311"/>
                </a:solidFill>
                <a:latin typeface="Arial"/>
              </a:rPr>
              <a:t>   </a:t>
            </a:r>
            <a:r>
              <a:rPr b="0" i="1" lang="en-US" sz="3100" spc="-1" strike="noStrike">
                <a:solidFill>
                  <a:srgbClr val="2f1311"/>
                </a:solidFill>
                <a:latin typeface="Arial"/>
              </a:rPr>
              <a:t>Abraham Hesh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83360" y="304920"/>
            <a:ext cx="2149200" cy="1396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81480" y="5079960"/>
            <a:ext cx="164160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7280" y="303120"/>
            <a:ext cx="822024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STOP PREJUD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36600" y="1827000"/>
            <a:ext cx="812016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"War would end if the dead could return." Stanley Baldwin.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In peace sons bury fathers, but war violates the </a:t>
            </a:r>
            <a:r>
              <a:rPr b="0" i="1" lang="en-US" sz="3600" spc="-1" strike="noStrike" u="sng">
                <a:solidFill>
                  <a:srgbClr val="2f1311"/>
                </a:solidFill>
                <a:uFillTx/>
                <a:latin typeface="Arial"/>
              </a:rPr>
              <a:t>order of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nature, and fathers bury sons." - Herodotus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27280" y="5283360"/>
            <a:ext cx="264636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7280" y="303120"/>
            <a:ext cx="822024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L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36600" y="1827000"/>
            <a:ext cx="812016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2f1311"/>
                </a:solidFill>
                <a:latin typeface="Arial"/>
              </a:rPr>
              <a:t>Can one have love? If we could, love would need to be a thing, a substance that one can have, own, possess. The truth is, there is no such thing as "love." "Love" is an abstraction, perhaps a goddess or an alien being, although nobody has ever seen this goddess. In reality, there exists only the act of loving. To love is a productive activity. It implies caring for, knowing, responding, affirming, enjoying: the person, the tree, the painting, the idea. It means bringing to life, increasing his/her/its aliveness. It is a process, self-renewing and self increasing. from To Have or to B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2f1311"/>
                </a:solidFill>
                <a:latin typeface="Arial"/>
              </a:rPr>
              <a:t>Erich From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0120" y="6299280"/>
            <a:ext cx="2253960" cy="2127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984400" y="6010200"/>
            <a:ext cx="20322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7280" y="303120"/>
            <a:ext cx="822024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Against Prejud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26120" y="3882960"/>
            <a:ext cx="2033640" cy="204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47680" y="3795840"/>
            <a:ext cx="928836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"We can all do our share to redeem the world in spite of all absurdities and all frustrations and all disappointments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braham Heshe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41880" y="4183200"/>
            <a:ext cx="11916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